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31F-CC1B-443B-AD89-9F461AEF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2A1-2352-4008-853C-1F62866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0A9-40C1-4A72-B590-D5D9DF57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BCA-5209-4B79-B628-7E9DF30C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89B-A6B9-46C0-AEDB-6E4A108B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B3C-2FD6-46A2-81A1-5503719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A0F-FA8B-4FBA-93D6-C7A0BD4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3D6-34BE-4C4B-BEEF-544AA1A0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151-112F-4579-B003-EEC4A45F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8AB-695E-4711-B912-B6C69D8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DCA-EF2D-4E9D-9F88-CFFEADB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AF2-FB6A-4791-87E2-88D3DC57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64BF-7DBE-4B04-850E-0CA0C673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acqueline Mc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GA 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80880" y="1219320"/>
          <a:ext cx="6095880" cy="74667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12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762120" y="533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Matrix Organiz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1219320"/>
          <a:ext cx="6096240" cy="622296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990360"/>
                <a:gridCol w="1219320"/>
                <a:gridCol w="99072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utionary W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o-Poli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762120" y="533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lict Matrix Organiz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066680"/>
            <a:ext cx="2666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6172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7391520"/>
            <a:ext cx="5715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143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048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75438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Idea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657600"/>
            <a:ext cx="61722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3733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733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562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38080" y="990720"/>
          <a:ext cx="5639040" cy="1143000"/>
        </p:xfrm>
        <a:graphic>
          <a:graphicData uri="http://schemas.openxmlformats.org/drawingml/2006/table">
            <a:tbl>
              <a:tblPr/>
              <a:tblGrid>
                <a:gridCol w="56390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38080" y="3048120"/>
          <a:ext cx="5639040" cy="310500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895480" y="42670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7315200"/>
          <a:ext cx="5638680" cy="137160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Sent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3352680" y="2286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4008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838080" y="990720"/>
          <a:ext cx="5639040" cy="1143000"/>
        </p:xfrm>
        <a:graphic>
          <a:graphicData uri="http://schemas.openxmlformats.org/drawingml/2006/table">
            <a:tbl>
              <a:tblPr/>
              <a:tblGrid>
                <a:gridCol w="56390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838080" y="7315200"/>
          <a:ext cx="5638680" cy="137160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Sent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352680" y="2286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4008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3048120"/>
          <a:ext cx="5639040" cy="328752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228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respect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990720"/>
          <a:ext cx="6248520" cy="114300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57200" y="7315200"/>
          <a:ext cx="6172200" cy="137160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Sent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352680" y="2286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4008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2971800"/>
          <a:ext cx="6323040" cy="3352680"/>
        </p:xfrm>
        <a:graphic>
          <a:graphicData uri="http://schemas.openxmlformats.org/drawingml/2006/table">
            <a:tbl>
              <a:tblPr/>
              <a:tblGrid>
                <a:gridCol w="903240"/>
                <a:gridCol w="903240"/>
                <a:gridCol w="903240"/>
                <a:gridCol w="903240"/>
                <a:gridCol w="903240"/>
                <a:gridCol w="903240"/>
                <a:gridCol w="903600"/>
              </a:tblGrid>
              <a:tr h="838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09480" y="3657600"/>
            <a:ext cx="5715000" cy="76320"/>
            <a:chOff x="609480" y="3657600"/>
            <a:chExt cx="5715000" cy="76320"/>
          </a:xfrm>
        </p:grpSpPr>
        <p:sp>
          <p:nvSpPr>
            <p:cNvPr id="153" name=""/>
            <p:cNvSpPr/>
            <p:nvPr/>
          </p:nvSpPr>
          <p:spPr>
            <a:xfrm>
              <a:off x="60948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1960" y="3657600"/>
              <a:ext cx="381240" cy="76320"/>
            </a:xfrm>
            <a:prstGeom prst="rightArrow">
              <a:avLst>
                <a:gd name="adj1" fmla="val 50000"/>
                <a:gd name="adj2" fmla="val 12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6360" y="3657600"/>
              <a:ext cx="381240" cy="76320"/>
            </a:xfrm>
            <a:prstGeom prst="rightArrow">
              <a:avLst>
                <a:gd name="adj1" fmla="val 50000"/>
                <a:gd name="adj2" fmla="val 12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tion Graphic Orga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43080" y="3657600"/>
          <a:ext cx="6133680" cy="1676520"/>
        </p:xfrm>
        <a:graphic>
          <a:graphicData uri="http://schemas.openxmlformats.org/drawingml/2006/table">
            <a:tbl>
              <a:tblPr/>
              <a:tblGrid>
                <a:gridCol w="61336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9480" y="2133720"/>
          <a:ext cx="5905440" cy="609480"/>
        </p:xfrm>
        <a:graphic>
          <a:graphicData uri="http://schemas.openxmlformats.org/drawingml/2006/table">
            <a:tbl>
              <a:tblPr/>
              <a:tblGrid>
                <a:gridCol w="5905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28600" y="63244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63244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63244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6386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0481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71500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71500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43080" y="2133720"/>
          <a:ext cx="2933640" cy="4614840"/>
        </p:xfrm>
        <a:graphic>
          <a:graphicData uri="http://schemas.openxmlformats.org/drawingml/2006/table">
            <a:tbl>
              <a:tblPr/>
              <a:tblGrid>
                <a:gridCol w="29336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ar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038480" y="609480"/>
          <a:ext cx="2514600" cy="10670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r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143000" y="7620120"/>
          <a:ext cx="4114800" cy="12186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onship Categ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43080" y="609480"/>
          <a:ext cx="2095200" cy="1067040"/>
        </p:xfrm>
        <a:graphic>
          <a:graphicData uri="http://schemas.openxmlformats.org/drawingml/2006/table">
            <a:tbl>
              <a:tblPr/>
              <a:tblGrid>
                <a:gridCol w="209520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581280" y="2133720"/>
          <a:ext cx="3009960" cy="466092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2590920" y="1066680"/>
            <a:ext cx="1295280" cy="228600"/>
          </a:xfrm>
          <a:prstGeom prst="leftRightArrow">
            <a:avLst>
              <a:gd name="adj1" fmla="val 50000"/>
              <a:gd name="adj2" fmla="val 112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514240" y="1219320"/>
            <a:ext cx="60948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1219320"/>
            <a:ext cx="6858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y Graphic Organ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304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429000" y="1447560"/>
            <a:ext cx="7632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962520"/>
            <a:ext cx="563904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914400" y="1676520"/>
            <a:ext cx="464832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828800"/>
            <a:ext cx="541044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2895480"/>
            <a:ext cx="236196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3886200"/>
            <a:ext cx="1447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685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3049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049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/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371600"/>
          <a:ext cx="4724280" cy="223956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990720" y="5486400"/>
          <a:ext cx="4724280" cy="254448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200400" y="3886200"/>
            <a:ext cx="152280" cy="1371600"/>
          </a:xfrm>
          <a:prstGeom prst="downArrow">
            <a:avLst>
              <a:gd name="adj1" fmla="val 50000"/>
              <a:gd name="adj2" fmla="val 2251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0880" y="762120"/>
          <a:ext cx="6172200" cy="808776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ed Reading/Thinking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know I know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think I know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think I’ll lear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know I learned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80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981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981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43000" y="3048120"/>
          <a:ext cx="4572000" cy="20700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ar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19320" y="6172200"/>
          <a:ext cx="4572000" cy="20700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781360" y="6934320"/>
            <a:ext cx="1219320" cy="75960"/>
          </a:xfrm>
          <a:prstGeom prst="leftRightArrow">
            <a:avLst>
              <a:gd name="adj1" fmla="val 50000"/>
              <a:gd name="adj2" fmla="val 319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81360" y="7391520"/>
            <a:ext cx="1219320" cy="75960"/>
          </a:xfrm>
          <a:prstGeom prst="leftRightArrow">
            <a:avLst>
              <a:gd name="adj1" fmla="val 50000"/>
              <a:gd name="adj2" fmla="val 319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81360" y="7924680"/>
            <a:ext cx="1219320" cy="76320"/>
          </a:xfrm>
          <a:prstGeom prst="leftRightArrow">
            <a:avLst>
              <a:gd name="adj1" fmla="val 50000"/>
              <a:gd name="adj2" fmla="val 3180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228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457200"/>
          <a:ext cx="4572000" cy="5335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/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09480" y="1600200"/>
          <a:ext cx="5638680" cy="693396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228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09480" y="457200"/>
          <a:ext cx="4572000" cy="5335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/Solution/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09480" y="1600200"/>
          <a:ext cx="5639040" cy="31050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990720" y="5562720"/>
          <a:ext cx="4572000" cy="30477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4343400" y="47242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905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57200" y="380880"/>
          <a:ext cx="4572000" cy="6098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/Or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33520" y="1905120"/>
          <a:ext cx="6019200" cy="6857640"/>
        </p:xfrm>
        <a:graphic>
          <a:graphicData uri="http://schemas.openxmlformats.org/drawingml/2006/table">
            <a:tbl>
              <a:tblPr/>
              <a:tblGrid>
                <a:gridCol w="601920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380880"/>
          <a:ext cx="4419720" cy="53352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Map 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7200" y="1066680"/>
          <a:ext cx="6095880" cy="59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57200" y="1828800"/>
          <a:ext cx="6095880" cy="1515960"/>
        </p:xfrm>
        <a:graphic>
          <a:graphicData uri="http://schemas.openxmlformats.org/drawingml/2006/table">
            <a:tbl>
              <a:tblPr/>
              <a:tblGrid>
                <a:gridCol w="1600200"/>
                <a:gridCol w="2387520"/>
                <a:gridCol w="2108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: (wh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57200" y="3505320"/>
          <a:ext cx="6095880" cy="1523880"/>
        </p:xfrm>
        <a:graphic>
          <a:graphicData uri="http://schemas.openxmlformats.org/drawingml/2006/table">
            <a:tbl>
              <a:tblPr/>
              <a:tblGrid>
                <a:gridCol w="1600200"/>
                <a:gridCol w="4495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 (Whe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57200" y="5181480"/>
          <a:ext cx="6095880" cy="2146320"/>
        </p:xfrm>
        <a:graphic>
          <a:graphicData uri="http://schemas.openxmlformats.org/drawingml/2006/table">
            <a:tbl>
              <a:tblPr/>
              <a:tblGrid>
                <a:gridCol w="1676520"/>
                <a:gridCol w="4419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:  (Fir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:  (Nex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:  (La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57200" y="7620120"/>
          <a:ext cx="6095880" cy="122076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380880"/>
          <a:ext cx="4419720" cy="53352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Map 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57200" y="1066680"/>
          <a:ext cx="6095880" cy="59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57200" y="1828800"/>
          <a:ext cx="6095880" cy="1515960"/>
        </p:xfrm>
        <a:graphic>
          <a:graphicData uri="http://schemas.openxmlformats.org/drawingml/2006/table">
            <a:tbl>
              <a:tblPr/>
              <a:tblGrid>
                <a:gridCol w="1600200"/>
                <a:gridCol w="2387520"/>
                <a:gridCol w="2108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: (wh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57200" y="3505320"/>
          <a:ext cx="6095880" cy="1523880"/>
        </p:xfrm>
        <a:graphic>
          <a:graphicData uri="http://schemas.openxmlformats.org/drawingml/2006/table">
            <a:tbl>
              <a:tblPr/>
              <a:tblGrid>
                <a:gridCol w="1600200"/>
                <a:gridCol w="4495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 (Whe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57200" y="5181480"/>
          <a:ext cx="6095880" cy="2146320"/>
        </p:xfrm>
        <a:graphic>
          <a:graphicData uri="http://schemas.openxmlformats.org/drawingml/2006/table">
            <a:tbl>
              <a:tblPr/>
              <a:tblGrid>
                <a:gridCol w="1676520"/>
                <a:gridCol w="4419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1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5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57200" y="7620120"/>
          <a:ext cx="6095880" cy="122076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457200" y="380880"/>
          <a:ext cx="4419720" cy="53352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Map 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57200" y="1066680"/>
          <a:ext cx="6095880" cy="381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57200" y="2362320"/>
          <a:ext cx="6095880" cy="909360"/>
        </p:xfrm>
        <a:graphic>
          <a:graphicData uri="http://schemas.openxmlformats.org/drawingml/2006/table">
            <a:tbl>
              <a:tblPr/>
              <a:tblGrid>
                <a:gridCol w="1828800"/>
                <a:gridCol w="2158920"/>
                <a:gridCol w="2108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: (wh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57200" y="1600200"/>
          <a:ext cx="6095880" cy="607680"/>
        </p:xfrm>
        <a:graphic>
          <a:graphicData uri="http://schemas.openxmlformats.org/drawingml/2006/table">
            <a:tbl>
              <a:tblPr/>
              <a:tblGrid>
                <a:gridCol w="1676520"/>
                <a:gridCol w="4419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 (Whe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80880" y="3429000"/>
          <a:ext cx="6096240" cy="2607840"/>
        </p:xfrm>
        <a:graphic>
          <a:graphicData uri="http://schemas.openxmlformats.org/drawingml/2006/table">
            <a:tbl>
              <a:tblPr/>
              <a:tblGrid>
                <a:gridCol w="1676520"/>
                <a:gridCol w="4419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1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x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st important difficul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57200" y="6248520"/>
          <a:ext cx="6095880" cy="145224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/ Conclu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457200" y="8610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447920" y="7924320"/>
            <a:ext cx="3047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79246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8610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00" y="82281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ag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7924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81532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81532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00200" y="800064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3240" y="784872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8560" y="82296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419360" y="79246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105520" y="8381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4880" y="86104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66680" y="304920"/>
          <a:ext cx="4572000" cy="533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09480" y="1371600"/>
          <a:ext cx="1828800" cy="151596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Charac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267080" y="1371600"/>
          <a:ext cx="1828800" cy="151596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Charac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09480" y="3200400"/>
          <a:ext cx="5486400" cy="1519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 and 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286000" y="5334120"/>
          <a:ext cx="1828800" cy="151596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04920" y="5334120"/>
          <a:ext cx="1828800" cy="151596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419720" y="5334120"/>
          <a:ext cx="1828800" cy="15174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85800" y="7086600"/>
          <a:ext cx="4572000" cy="1714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/ M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04920" y="609480"/>
          <a:ext cx="6171840" cy="457200"/>
        </p:xfrm>
        <a:graphic>
          <a:graphicData uri="http://schemas.openxmlformats.org/drawingml/2006/table">
            <a:tbl>
              <a:tblPr/>
              <a:tblGrid>
                <a:gridCol w="6171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Map 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3520" y="1447920"/>
          <a:ext cx="1981080" cy="10666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114800" y="1447920"/>
          <a:ext cx="1981080" cy="10666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447920" y="2895480"/>
          <a:ext cx="3657600" cy="762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/ Problem/ Conflic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143000" y="4114800"/>
          <a:ext cx="4419720" cy="190656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191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Ev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523880" y="6324480"/>
          <a:ext cx="3657600" cy="762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/Resolu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47920" y="7772400"/>
          <a:ext cx="3657600" cy="762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al/ Them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3048120" y="7086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019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657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25146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25146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145800" y="1571760"/>
            <a:ext cx="7149600" cy="7149240"/>
            <a:chOff x="-145800" y="1571760"/>
            <a:chExt cx="7149600" cy="7149240"/>
          </a:xfrm>
        </p:grpSpPr>
        <p:sp>
          <p:nvSpPr>
            <p:cNvPr id="270" name="_s30724"/>
            <p:cNvSpPr/>
            <p:nvPr/>
          </p:nvSpPr>
          <p:spPr>
            <a:xfrm>
              <a:off x="870120" y="2587680"/>
              <a:ext cx="5117760" cy="511812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30725"/>
            <p:cNvSpPr/>
            <p:nvPr/>
          </p:nvSpPr>
          <p:spPr>
            <a:xfrm rot="4320000">
              <a:off x="870120" y="2587680"/>
              <a:ext cx="5118120" cy="5117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30726"/>
            <p:cNvSpPr/>
            <p:nvPr/>
          </p:nvSpPr>
          <p:spPr>
            <a:xfrm rot="8640000">
              <a:off x="869760" y="2587320"/>
              <a:ext cx="5117760" cy="511812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30727"/>
            <p:cNvSpPr/>
            <p:nvPr/>
          </p:nvSpPr>
          <p:spPr>
            <a:xfrm rot="12960000">
              <a:off x="870120" y="2586960"/>
              <a:ext cx="5117760" cy="511812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30728"/>
            <p:cNvSpPr/>
            <p:nvPr/>
          </p:nvSpPr>
          <p:spPr>
            <a:xfrm rot="17280000">
              <a:off x="869760" y="2587320"/>
              <a:ext cx="5118120" cy="5117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30729"/>
            <p:cNvSpPr/>
            <p:nvPr/>
          </p:nvSpPr>
          <p:spPr>
            <a:xfrm>
              <a:off x="4216320" y="2717640"/>
              <a:ext cx="1130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gin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30730"/>
            <p:cNvSpPr/>
            <p:nvPr/>
          </p:nvSpPr>
          <p:spPr>
            <a:xfrm>
              <a:off x="676440" y="5292720"/>
              <a:ext cx="11300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 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30731"/>
            <p:cNvSpPr/>
            <p:nvPr/>
          </p:nvSpPr>
          <p:spPr>
            <a:xfrm>
              <a:off x="1511280" y="2719440"/>
              <a:ext cx="1130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d of S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30732"/>
            <p:cNvSpPr/>
            <p:nvPr/>
          </p:nvSpPr>
          <p:spPr>
            <a:xfrm>
              <a:off x="5052960" y="5291280"/>
              <a:ext cx="11304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 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30733"/>
            <p:cNvSpPr/>
            <p:nvPr/>
          </p:nvSpPr>
          <p:spPr>
            <a:xfrm>
              <a:off x="2865600" y="6881760"/>
              <a:ext cx="11300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 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1255800">
              <a:off x="1143000" y="6171120"/>
              <a:ext cx="685800" cy="609840"/>
            </a:xfrm>
            <a:prstGeom prst="triangle">
              <a:avLst>
                <a:gd name="adj" fmla="val 4642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61722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of the s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410080" y="5104800"/>
            <a:ext cx="609840" cy="533160"/>
          </a:xfrm>
          <a:prstGeom prst="triangle">
            <a:avLst>
              <a:gd name="adj" fmla="val 464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 rot="20384400">
            <a:off x="1294920" y="3505320"/>
            <a:ext cx="685800" cy="609480"/>
          </a:xfrm>
          <a:prstGeom prst="triangle">
            <a:avLst>
              <a:gd name="adj" fmla="val 588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 rot="4235400">
            <a:off x="3722760" y="7225920"/>
            <a:ext cx="692280" cy="244440"/>
          </a:xfrm>
          <a:prstGeom prst="triangle">
            <a:avLst>
              <a:gd name="adj" fmla="val 464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80880"/>
            <a:ext cx="541008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membering story sequence in chronological order. Fill in the blocks with main events of the story in chronolog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8001000"/>
            <a:ext cx="6172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, or moral of the s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80880" y="762120"/>
          <a:ext cx="6172200" cy="815328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 of the less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ng learning strategies: (learners mentally ac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e teaching strategies: (Distributed guided practice ad/or distributed summarizing in pairs; graphic organizers;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ing strategies: Learner individually or in pairs summarizes and answers essential ques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0880" y="67057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93432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pts for distributed pract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57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sition Lesson Plann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6172200" cy="71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opens 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begins whe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, the problem in this story is solved wh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d Paragraph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261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401796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67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1448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3079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354816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4484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952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2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635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68245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776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72946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8229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304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Map: Students Use the Character Map to write short sentences about the what the character did or said in the story. Then write a sentence beneath the figure that describes the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16765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Map for: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9480" y="2286000"/>
            <a:ext cx="5791320" cy="6629400"/>
            <a:chOff x="609480" y="2286000"/>
            <a:chExt cx="5791320" cy="6629400"/>
          </a:xfrm>
        </p:grpSpPr>
        <p:grpSp>
          <p:nvGrpSpPr>
            <p:cNvPr id="307" name=""/>
            <p:cNvGrpSpPr/>
            <p:nvPr/>
          </p:nvGrpSpPr>
          <p:grpSpPr>
            <a:xfrm>
              <a:off x="1904760" y="2286000"/>
              <a:ext cx="2819520" cy="5409360"/>
              <a:chOff x="1904760" y="2286000"/>
              <a:chExt cx="2819520" cy="5409360"/>
            </a:xfrm>
          </p:grpSpPr>
          <p:sp>
            <p:nvSpPr>
              <p:cNvPr id="308" name=""/>
              <p:cNvSpPr/>
              <p:nvPr/>
            </p:nvSpPr>
            <p:spPr>
              <a:xfrm>
                <a:off x="2865960" y="2286000"/>
                <a:ext cx="960840" cy="106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14520" y="3353760"/>
                <a:ext cx="0" cy="213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314520" y="2926440"/>
                <a:ext cx="1409760" cy="10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1904760" y="2926440"/>
                <a:ext cx="1409400" cy="10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3314520" y="5489280"/>
                <a:ext cx="960840" cy="2206080"/>
                <a:chOff x="3314520" y="5489280"/>
                <a:chExt cx="960840" cy="22060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314520" y="5489280"/>
                  <a:ext cx="960840" cy="92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4146840" y="6414120"/>
                  <a:ext cx="127800" cy="12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352960" y="5489280"/>
                <a:ext cx="960840" cy="2206080"/>
                <a:chOff x="2352960" y="5489280"/>
                <a:chExt cx="960840" cy="2206080"/>
              </a:xfrm>
            </p:grpSpPr>
            <p:sp>
              <p:nvSpPr>
                <p:cNvPr id="316" name=""/>
                <p:cNvSpPr/>
                <p:nvPr/>
              </p:nvSpPr>
              <p:spPr>
                <a:xfrm flipH="1">
                  <a:off x="2352960" y="5489280"/>
                  <a:ext cx="960840" cy="92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353680" y="6414120"/>
                  <a:ext cx="127800" cy="12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4114800" y="3886200"/>
              <a:ext cx="2286000" cy="1219320"/>
              <a:chOff x="4114800" y="3886200"/>
              <a:chExt cx="2286000" cy="1219320"/>
            </a:xfrm>
          </p:grpSpPr>
          <p:sp>
            <p:nvSpPr>
              <p:cNvPr id="319" name=""/>
              <p:cNvSpPr/>
              <p:nvPr/>
            </p:nvSpPr>
            <p:spPr>
              <a:xfrm>
                <a:off x="4114800" y="38862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14800" y="429264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14800" y="469908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14800" y="510552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09480" y="39625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9480" y="43689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480" y="47750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51814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09480" y="7848720"/>
              <a:ext cx="5485680" cy="1066680"/>
              <a:chOff x="609480" y="7848720"/>
              <a:chExt cx="5485680" cy="1066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7848720"/>
                <a:ext cx="54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9480" y="8204040"/>
                <a:ext cx="54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480" y="8559720"/>
                <a:ext cx="54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9480" y="8915400"/>
                <a:ext cx="54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6172200" cy="71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opens 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in the story happens w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in this story is solved whe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80520" y="845820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le Passag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provided key elements of the story.  They predict what will happen, and complete the page. Then they compare what they read with what they predicted, and make mod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2590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167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21448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3079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354816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484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4952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42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635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68245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776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72946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8229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2286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main character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e Passages for: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L Outline for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80880" y="1523880"/>
          <a:ext cx="6172200" cy="5943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 I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W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 I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 I have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tegory designations for “L”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380880" y="7696080"/>
            <a:ext cx="60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and list what you know in the first column.  Write questions or statements in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umn about what you think you will learn.  Read the selection. Write what you have learned in th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umn. Categorize what you hav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14479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304920" y="457200"/>
          <a:ext cx="6172200" cy="835668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21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3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learning about a topic, or reading a selection, students work individually to collect their thoughts and then in small groups in order to learn through social inter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group shares its word and explains their reasons for choosing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down five words (on your own):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 three words we (groups of two or three) decided on ar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he one word our group decided on 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304920" y="1905120"/>
            <a:ext cx="6324480" cy="6858000"/>
            <a:chOff x="304920" y="1905120"/>
            <a:chExt cx="6324480" cy="6858000"/>
          </a:xfrm>
        </p:grpSpPr>
        <p:sp>
          <p:nvSpPr>
            <p:cNvPr id="355" name=""/>
            <p:cNvSpPr/>
            <p:nvPr/>
          </p:nvSpPr>
          <p:spPr>
            <a:xfrm>
              <a:off x="304920" y="1905120"/>
              <a:ext cx="63244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" y="213372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egories that the ideas fit i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rcle Map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organize their thoughts and discover links between concepts. Working in groups, students put ideas into context through their own and others’ points of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47920" y="3314880"/>
            <a:ext cx="4038480" cy="4038480"/>
            <a:chOff x="1447920" y="3314880"/>
            <a:chExt cx="4038480" cy="4038480"/>
          </a:xfrm>
        </p:grpSpPr>
        <p:sp>
          <p:nvSpPr>
            <p:cNvPr id="359" name=""/>
            <p:cNvSpPr/>
            <p:nvPr/>
          </p:nvSpPr>
          <p:spPr>
            <a:xfrm>
              <a:off x="1447920" y="3314880"/>
              <a:ext cx="4038480" cy="403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33640" y="48006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8120" y="51055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38098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s/Ideas/Knowledge about the topi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57200" y="7467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ing sentences&gt;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.I.N.K.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, Inquire, Note and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43080" y="2133720"/>
          <a:ext cx="6172200" cy="667800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use this activity to activate prior knowledge and maintain focus on their studies.  Students write what they know about a topic, ask others about the topic, add new ideas to their list, and then discuss the topic as a group.  At this point students are prepared to learn more about the top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students a key term phrase or word that represents the top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students list what they know about the 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n each student for a response.  Write the response on the board or overhe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students ask each other about their responses.  The teacher at this point is a facilitator. Students should try to determine why other students responded as they di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 the responses and have students turn their papers ov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students write down everything they know about the topic now.  Limit the time to one minu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80880" y="1143000"/>
          <a:ext cx="6172200" cy="7194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91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s?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hat caused these problem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to the problem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304920" y="457200"/>
          <a:ext cx="6172200" cy="863604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21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ed Reading/Thinking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: ______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read text by examining the title, subtitles, pictures, and first paragraph.  Make predictions about the story. Fill out parts #1-3 of the graphic organizer.  Finish reading the selection and make any changes.  Complete #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know I kno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think I kno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think I will lear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know I l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0640" y="1066680"/>
            <a:ext cx="30481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0640" y="2590920"/>
            <a:ext cx="3048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267080"/>
            <a:ext cx="5105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6386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08160" y="5638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54560" y="56386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295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2819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Essential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495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Concepts/ Skills/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ap for Un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914400"/>
            <a:ext cx="2209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438280"/>
            <a:ext cx="22096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7913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57913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57913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12193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48240" y="274320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48240" y="41911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52680" y="175212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048120"/>
            <a:ext cx="2133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3048120"/>
            <a:ext cx="20574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066680" y="3733920"/>
            <a:ext cx="10670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733920"/>
            <a:ext cx="16002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733920"/>
            <a:ext cx="3657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28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it?            (Write the defin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666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6553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some examp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it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114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76720"/>
            <a:ext cx="289584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4191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514520" y="2171880"/>
            <a:ext cx="3905280" cy="3528720"/>
            <a:chOff x="1514520" y="2171880"/>
            <a:chExt cx="3905280" cy="3528720"/>
          </a:xfrm>
        </p:grpSpPr>
        <p:sp>
          <p:nvSpPr>
            <p:cNvPr id="92" name="_s8196"/>
            <p:cNvSpPr/>
            <p:nvPr/>
          </p:nvSpPr>
          <p:spPr>
            <a:xfrm flipH="1">
              <a:off x="2526840" y="4613400"/>
              <a:ext cx="4683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7"/>
            <p:cNvSpPr/>
            <p:nvPr/>
          </p:nvSpPr>
          <p:spPr>
            <a:xfrm>
              <a:off x="1514520" y="461484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3936960" y="461484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199"/>
            <p:cNvSpPr/>
            <p:nvPr/>
          </p:nvSpPr>
          <p:spPr>
            <a:xfrm>
              <a:off x="4334040" y="461340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0"/>
            <p:cNvSpPr/>
            <p:nvPr/>
          </p:nvSpPr>
          <p:spPr>
            <a:xfrm flipV="1">
              <a:off x="3467160" y="32576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201"/>
            <p:cNvSpPr/>
            <p:nvPr/>
          </p:nvSpPr>
          <p:spPr>
            <a:xfrm>
              <a:off x="2924280" y="217188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2"/>
            <p:cNvSpPr/>
            <p:nvPr/>
          </p:nvSpPr>
          <p:spPr>
            <a:xfrm>
              <a:off x="2924280" y="380052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4572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 Mapp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762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Featur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3080" y="2133720"/>
          <a:ext cx="6172200" cy="6033960"/>
        </p:xfrm>
        <a:graphic>
          <a:graphicData uri="http://schemas.openxmlformats.org/drawingml/2006/table">
            <a:tbl>
              <a:tblPr/>
              <a:tblGrid>
                <a:gridCol w="771480"/>
                <a:gridCol w="771480"/>
                <a:gridCol w="771480"/>
                <a:gridCol w="771480"/>
                <a:gridCol w="771480"/>
                <a:gridCol w="771480"/>
                <a:gridCol w="771480"/>
                <a:gridCol w="7718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990720"/>
            <a:ext cx="38098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47800"/>
            <a:ext cx="38098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305240"/>
            <a:ext cx="38098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962680"/>
            <a:ext cx="38098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7620120"/>
            <a:ext cx="601992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7315200"/>
            <a:ext cx="617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6095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6400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76201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Idea or Mai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666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16:33Z</dcterms:created>
  <dc:creator>RESA</dc:creator>
  <dc:description/>
  <dc:language>en-US</dc:language>
  <cp:lastModifiedBy>melissa.smith</cp:lastModifiedBy>
  <dcterms:modified xsi:type="dcterms:W3CDTF">2007-07-16T20:09:20Z</dcterms:modified>
  <cp:revision>4</cp:revision>
  <dc:subject/>
  <dc:title>Slide 1</dc:title>
</cp:coreProperties>
</file>